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0E37BF7-F4D5-4B13-A165-20EE1BD9DAA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43CCCA8A-78D7-45B6-B4C8-5868227D1007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157462D-8849-4735-A861-7025EBED10F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764D464-D612-4B05-9AFF-84429C3A2DF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EE46424-ABAE-4BC9-9AE4-AB6B829DEA5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F117E08-499C-42F4-9F5C-4FA91E869F8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A4AB5E3-4EC8-49E2-A611-17D62D91A96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C2367AF-165B-4147-A5B2-D6785DDED3E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58C6DDD-FA24-461A-859A-288A990BDFF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8FD3DF6-4C5C-495B-8EEA-DC3D4A1EED1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214D052-3C6C-40FB-A2D9-8246D121CE8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71FE970-0BE1-4BF8-BEED-807E64A4D0F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ACD7F56F-7C3A-4445-9321-6A39D347804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4AE0BCAE-E37E-4E4A-82D4-112B7362DD9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4CB9C04-744D-4D4C-9DC7-1B2A4537590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AD185161-9D79-424E-9564-D55CEBFB4CF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0E0DA32B-F8CA-46B2-977C-7DD38FBD0925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Post-Launch Coach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Role Manager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you talk with individual team members weekly, discuss their assigned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team member familiar with his/her role responsibiliti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the role responsibilities and practices been tailored to best suit the project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 team member thinking proactively about the responsibilities of his/her ro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es the team member have specific role tasks in his/her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goal here is to get the team members to take responsibility and to be proactive about their ro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orking with the Team Lead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 order to be an effective coach to the team, you need a  trusting and cooperative mutual relationship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Some ways to create that relationship ar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view your coaching plan with the team leader before reviewing it with the team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Keep the team leader informed of your actions, don’t initiate something with the team without discussing it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f the team leader disagrees with a proposed action, resolve the issue with the team leader or escalate the issue to senior management for resolution before taking any action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on’t go to the team leader’s management with any issue concerning the team or team leader without first discussing your plans with the team leader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8976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Working with the Team Leader (continued)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jective is to guide the team leader toward a coaching style of leadership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 leader must be a top priority for you since the team leader’s performance is critical to the team’s suc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pare before or during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with the team in meeting 8 or LAUP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ighligh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act information on coa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ternate coach to conta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-by-week specific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team meetings for month or tw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 with team members to provide assistan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first team inspe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ning manager’s initial data consolid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eam and individual data week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cipate in first management re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should create a coaching plan for each team you launch and review it with the team during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few weeks after the launch, you will need to spend considerable time with the team to get them started righ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 learns the basics, you can cut back on the time you spend with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412920" y="5334120"/>
            <a:ext cx="326880" cy="287280"/>
          </a:xfrm>
          <a:prstGeom prst="rightArrow">
            <a:avLst>
              <a:gd name="adj1" fmla="val 50000"/>
              <a:gd name="adj2" fmla="val 28446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st-launch brief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eekly team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lea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Coach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need coaching after the la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a lot of new th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ing as a self-directed te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llowing a detaile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ing the TSP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no detailed instructions with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itial coaching will take a lot of time, but it should quickly abate once the team understands the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coaching plan should be developed and reviewed with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t-Launch Brief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post-launch briefing should be held at the end of the launch to familiarize new teams wit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SP support too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riefing takes a couple of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eam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month or two, attend the team’s weekly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initial objectives ar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e team is holding weekly meet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team is following the meeting process, has an agenda, and a meeting repo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 team is gathering their data and properly consolidating i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Team Meeting (continued)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 is meeting the initial objectives, make 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members are following their plans or make timely plan changes to reflect what they are do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accurately assessing and reporting its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tracking key ri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role managers are providing appropriate team suppor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ce the team’s weekly meetings are being properly conduc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need not attend every on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ccasionally drop in to ensure  things are going o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7360" y="1547640"/>
            <a:ext cx="7413480" cy="475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should do inspections on all their work produ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cu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d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tc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tend the first team inspec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r objectives are to make s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is prepared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moderat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follows the inspection process (Script INS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Individu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first few weeks after the initial launch, meet with each team member at least once each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ir plan and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s their plan working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maintaining their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gathering and recording their data properl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re they looking at their data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how things are going and what problems they are hav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vide general guidance and mentor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45Z</dcterms:modified>
  <cp:revision>207</cp:revision>
  <dc:subject/>
  <dc:title>No Slide Title</dc:title>
</cp:coreProperties>
</file>